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61CD-612B-49CB-A851-2611058B5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BCA9-BA20-46C5-A9C5-DE9D6DA1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9585-49EE-4A16-B5F4-D424D055B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1D37-80DC-49AD-86B9-5A3F715CD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E263-45ED-40CC-8124-A706448D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6D9D-DEAB-4BDA-A8C2-8BAD8791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7F27-71A0-44D9-8842-2E8ED69C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2F59-1941-4044-9F5F-09DEAEB8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4C6D-CF5B-4245-868C-3412FD15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4053-15A0-469B-BC0B-CE156DD0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02F2-49FC-4529-A879-6CBD412C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8016-89F8-4A0B-A08E-E4F589DF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C193-F28E-48A7-90DF-790B933CFC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7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6240" y="219240"/>
            <a:ext cx="8259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now people are trying to help,but I wish the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uldn’t treat me as if I am a ch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 in the classroom,Xiaowen looks just like all h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m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uses a wheelchair to get around and often ta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 a little longer to do everyday th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 there are more opportunities for disab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to make a contribution for socie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college,gifted disabled studentsreceive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 they need succ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114300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58880" y="600120"/>
            <a:ext cx="9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98108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75800" y="197172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6477120" y="3048120"/>
            <a:ext cx="15228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3048120"/>
            <a:ext cx="38088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224480" y="326700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4952880"/>
            <a:ext cx="6098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48520" y="4410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362320" y="6172200"/>
            <a:ext cx="38088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6172200"/>
            <a:ext cx="380880" cy="304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81280" y="59342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4440" y="76320"/>
            <a:ext cx="88585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udents without disabilities also lear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ance of cooperating to reach for their goals in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’s very important for us to know that someone f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way is also struggling as we d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two years,mentally disabled athletes co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gether to take part in the Special Olymp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tal disability was considered being shameful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ntally disabled received little treatment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unately,we have now realised that ther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h what can be done to hel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457200"/>
            <a:ext cx="22860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62720" y="75240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228600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57800" y="189540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3124080"/>
            <a:ext cx="761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77120" y="311472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3886200"/>
            <a:ext cx="68580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81480" y="471492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e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4800600"/>
            <a:ext cx="53352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6477120"/>
            <a:ext cx="838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96040" y="601020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380880"/>
            <a:ext cx="128592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7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152720" y="1143000"/>
            <a:ext cx="2081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穿上衣服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为…做出贡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的问题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达到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在…里起作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适应，调整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习惯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参加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用多种方式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参与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参加…的比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角逐，竞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29880" y="1057320"/>
            <a:ext cx="204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get dresse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39360" y="1514520"/>
            <a:ext cx="36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make a contributio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53920" y="1971720"/>
            <a:ext cx="194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a matter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52120" y="2352600"/>
            <a:ext cx="26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reach one’s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90200" y="2833560"/>
            <a:ext cx="21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play a role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10400" y="326700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adjust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72320" y="364824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get us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68120" y="4029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take part i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11840" y="4486320"/>
            <a:ext cx="354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in more than one w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19680" y="4943520"/>
            <a:ext cx="240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participate i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45000" y="540072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compete i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63400" y="5857920"/>
            <a:ext cx="19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compete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80880" y="380880"/>
            <a:ext cx="128592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7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-164520" y="1285920"/>
            <a:ext cx="9633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Mrs. Smith is a woman with rich experience, 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ch can be lear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from whom    B. from which     C. whom      D. w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__________is quite natural , a beginner can’t fi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ch a difficult task in an hou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at         B. As       C. Which         D.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---What will your mother give you as your birthd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s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She promised to get a new bike ________me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           B. for           C. on           D.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87320" y="1209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57560" y="25052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58160" y="456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7880" y="219240"/>
            <a:ext cx="8826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__________it with me and I’ll see what I can 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en left             B. When leaving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If you leave          D. Le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ig snake , the little girl stood under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ee, 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een ; screamed                 B. Seen ; screa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Seeing ; screaming             D. Seeing ; screa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The experiment ___________they had made gre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ibution succeeded at l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which     B. at which   C. which    D.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The manager had to go to Beijing on business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ch 3, _________happened to be his only son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rth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ere            B. when       C. that          D.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29320" y="14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05640" y="1514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15320" y="3191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53200" y="4943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0720" y="371520"/>
            <a:ext cx="87976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. ---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 you familiar with the book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Yes. There was a time ________this book was qu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p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B. when     C. with which     D. about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The newly built museum is ________larger tha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ld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many       B. great       C. much          D. 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We are considering ________you to work with us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nviting         B. invite         C. to invite    D. inv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 He has only got one shirt, because all _________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ing was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e rest shirts            B. the rem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he left                        D. the 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86560" y="752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67800" y="2048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77440" y="3343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68000" y="4638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63800" y="371520"/>
            <a:ext cx="8838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2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’t treat me __________a child , will you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s              B. for            C. at               D.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 I’ll send____________on her birth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my mother a gift            B. a gift for my m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a gift at my mother       D. a gift by my m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 The little girl is dirty from head to foot because s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in the mud all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as playing                 B. has play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has been playing         D. is pla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---Would you like me to bring you a cup of coffe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 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ith great pleasure!      B. Yes, you cou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Good idea!                      D. That’s very kind of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20240" y="295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81800" y="1133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34240" y="2962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24600" y="4638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37880" y="447840"/>
            <a:ext cx="89787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was nearly an hour___________the sleeping pi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en            B. before        C. since       D.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---What are you busy doing these day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___________the coming mid-term examin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Preparing                  B. Preparing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prepare                D. To prepare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He looked around and found a man _________a wal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the grou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pick up                    B. to be picking 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pick up                D. picking 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4280" y="3715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14760" y="26575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68000" y="4257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90160" y="371520"/>
            <a:ext cx="8184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. --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ll you go with us tomorrow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It ___________the wea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ll depend                  B. is all depe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all depends                 D. is all depe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 Which do you enjoy __________your spare tim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rfing the Internet or reading nove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spend                   B. spending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being spend               D. sp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00920" y="828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10600" y="1971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19T12:50:23Z</dcterms:modified>
  <cp:revision>6</cp:revision>
  <dc:subject/>
  <dc:title>PowerPoint Presentation</dc:title>
</cp:coreProperties>
</file>